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855-0788-428F-B516-0D6E10D2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178-DD8C-4B6D-904E-EBD9B5F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35E-26E0-4FCC-B6B6-8BE7612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C17-C790-4066-9E45-6B27FCC3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E4C-FBD3-4FA9-8F94-5E7C9C9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2E3-8ECA-4017-B7CA-AA83AE5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B50-9876-419F-91F6-7763228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2C0-C46B-4A98-81C2-0036783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4C8-8632-4CC6-B8CA-7436CD7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B02-9815-451A-80C4-70271A1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781-69A9-4881-B454-64A601D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FAB-8CFC-4D13-987B-1411F5E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0DE2-AE61-4E4E-A93D-54DD727F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S_1.1_StarterA.ppt/" TargetMode="External"/><Relationship Id="rId2" Type="http://schemas.openxmlformats.org/officeDocument/2006/relationships/hyperlink" Target="http://AS_1.1_StarterA.ppt/" TargetMode="External"/><Relationship Id="rId3" Type="http://schemas.openxmlformats.org/officeDocument/2006/relationships/hyperlink" Target="http://AS_1.1_StarterA.ppt/" TargetMode="External"/><Relationship Id="rId4" Type="http://schemas.openxmlformats.org/officeDocument/2006/relationships/hyperlink" Target="http://AS_1.1_StarterA.ppt/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S 1.1 Starters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ocusing on ‘Achieve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04480" y="2491920"/>
            <a:ext cx="2962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ter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rter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arte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arter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lastslide"/>
          </p:cNvPr>
          <p:cNvSpPr/>
          <p:nvPr/>
        </p:nvSpPr>
        <p:spPr>
          <a:xfrm>
            <a:off x="3780000" y="5950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94280" y="2492280"/>
            <a:ext cx="2962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rter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24000" y="535680"/>
            <a:ext cx="4321080" cy="6303960"/>
            <a:chOff x="2124000" y="535680"/>
            <a:chExt cx="4321080" cy="6303960"/>
          </a:xfrm>
        </p:grpSpPr>
        <p:sp>
          <p:nvSpPr>
            <p:cNvPr id="144" name=""/>
            <p:cNvSpPr/>
            <p:nvPr/>
          </p:nvSpPr>
          <p:spPr>
            <a:xfrm>
              <a:off x="2124000" y="535680"/>
              <a:ext cx="4321080" cy="63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f  a = 4,  b = 5  &amp;  c = -3  fin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b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2a + 5c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Simplify (6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4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6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 (e – 3)(e + 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w – 15 + 3(2w +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p – 2)(p – 6)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12g +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(e + 2)(e + 9)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627280" y="3357720"/>
                  <a:ext cx="15130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1700280"/>
                  <a:ext cx="477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62120" y="3378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11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5680"/>
            <a:ext cx="43210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If  a = 4,  b = 5  &amp;  c = -3 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b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2a + 5c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Simplify (6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4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6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3)(e +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w – 15 + 3(2w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  (p – 2)(p – 6)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+ 12g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(e + 2)(e + 9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280" y="1268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61405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e = -2 or e = 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2680" y="56833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(g + 10)(g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11560" y="52052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p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8p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6560" y="47721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8w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7400" y="38368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+ 7e –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30480" y="294804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9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19680" y="24685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2 x 4 + 5 x -3 =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92360" y="1728720"/>
                <a:ext cx="1247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627280" y="3357720"/>
                <a:ext cx="1513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00360" y="1700280"/>
                <a:ext cx="477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47640" y="195120"/>
            <a:ext cx="5545440" cy="6298560"/>
            <a:chOff x="1547640" y="195120"/>
            <a:chExt cx="5545440" cy="6298560"/>
          </a:xfrm>
        </p:grpSpPr>
        <p:sp>
          <p:nvSpPr>
            <p:cNvPr id="167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62200" y="768600"/>
              <a:ext cx="5055840" cy="57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f  a = 4,  b = 5  &amp;  c = -3  find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3b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Factorise 4p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20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Simplify 5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(3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Expand   (e + 5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 (e – 9)(e + 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Factorise   g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9g +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p – 6)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g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2g –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e</a:t>
              </a:r>
              <a:r>
                <a:rPr b="1" lang="en-NZ" sz="28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e – 12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84360" y="1755720"/>
                  <a:ext cx="9018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2200" y="768600"/>
            <a:ext cx="505584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If  a = 4,  b = 5  &amp;  c = -3 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3b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4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0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5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(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e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9)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9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  (p – 6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2g –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e – 1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64440" y="600552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e = -3 or e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7440" y="550224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(g + 2)(g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494172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p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– 12p +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7560" y="33577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+ 10e +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7480" y="44370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(g + 8)(g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38000" y="39178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 – 4e –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5280" y="285264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14e</a:t>
            </a:r>
            <a:r>
              <a:rPr b="1" lang="en-NZ" sz="28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5440" y="23893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4p(p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1916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3971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  <a:ea typeface="SimSun"/>
              </a:rPr>
              <a:t>= 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84360" y="1755720"/>
                <a:ext cx="901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2640" y="709920"/>
            <a:ext cx="458064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(b + 9)(b – 2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 4x + 3 = 2x +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(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w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8)(e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g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Solve   (p – 4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g – 3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Factoris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8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39528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2640" y="709920"/>
            <a:ext cx="458064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(b + 9)(b – 2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 4x + 3 = 2x +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Factorise 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Simplify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(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 Expand   (w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  (e – 8)(e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8g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Solve   (p – 4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+ 2g – 3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Factorise    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– 8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8800" y="6093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-9 or e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4360" y="557388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g = -7 or g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360" y="501336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p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720" y="450864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(g + 6)(g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8800" y="3500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6w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8160" y="298116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3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2000" y="24051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8x(x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03920" y="18302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x =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132552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b = -9   &amp;   b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66800" y="400536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840240"/>
            <a:ext cx="46083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mpl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2)  5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3)  1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10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÷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6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4) 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(2e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5)   Expand   3e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6)   Expand   (e + 2)(e +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7) 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+ 6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8)   Expand   (p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9)   Solve  (g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10)  Factorise    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–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840240"/>
            <a:ext cx="46083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mpl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2)  5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 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SimSu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3)  18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10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÷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6x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4)  3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×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(2e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5)   Expand   3e(e +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6)   Expand   (e + 2)(e +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7)   Factorise   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+ 6g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8)   Expand   (p + 3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9)   Solve  (g + 5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10)  Factorise    p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 Rounded MT Bold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 –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06080" y="1397160"/>
            <a:ext cx="9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m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05600" y="19162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10m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37720" y="247824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3x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38080" y="298116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12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3280" y="3500280"/>
            <a:ext cx="20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3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15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1920" y="3989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7e +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2200" y="449424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(g + 4)(g +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46800" y="5013360"/>
            <a:ext cx="22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p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6p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8000" y="550224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g = -5 or g =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3080" y="602136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(p + 9)(p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95280" y="285228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ood Effor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2720" y="810000"/>
            <a:ext cx="426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4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12m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24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÷ 6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3p + 12w – 4p – 14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(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5(w +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Expand w(w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3p(p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5m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3(e + 5 ) =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554200" y="3141720"/>
                <a:ext cx="865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0920" y="831960"/>
            <a:ext cx="2158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6028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468360" y="5805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10228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2720" y="810000"/>
            <a:ext cx="426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)  4m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× 12m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2)  24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÷ 6e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3)  3p + 12w – 4p – 14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4)  (g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6)  Expand 5(w +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7)  Expand w(w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8)  Expand 3p(p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9)  Solve   5m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10)  Solve 3(e + 5 ) =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54200" y="3141720"/>
                <a:ext cx="865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50920" y="831960"/>
            <a:ext cx="2158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26028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468360" y="5805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2800" y="90792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48m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9720" y="141300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8000" y="206064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-p – 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90440" y="2492280"/>
            <a:ext cx="916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g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0080" y="3068640"/>
            <a:ext cx="976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360" y="3573360"/>
            <a:ext cx="176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5w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90440" y="4149720"/>
            <a:ext cx="1747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63160" y="479736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3p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– 1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5840" y="53578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m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5805360"/>
            <a:ext cx="118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10228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96920" y="691200"/>
            <a:ext cx="3480120" cy="5580360"/>
            <a:chOff x="1996920" y="691200"/>
            <a:chExt cx="3480120" cy="5580360"/>
          </a:xfrm>
        </p:grpSpPr>
        <p:sp>
          <p:nvSpPr>
            <p:cNvPr id="71" name=""/>
            <p:cNvSpPr/>
            <p:nvPr/>
          </p:nvSpPr>
          <p:spPr>
            <a:xfrm>
              <a:off x="1996920" y="691200"/>
              <a:ext cx="34801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implify (if possi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6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8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 64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1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16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2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5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(4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2e(e + 5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w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w – 6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(p – 6) + 5(p +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m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+ 7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4e – 5 = 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340000" y="299736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18900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539640" y="573408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102280"/>
            <a:ext cx="165600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96920" y="691200"/>
            <a:ext cx="348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Simplify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6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8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 64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16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2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5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(4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2e(e +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w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w – 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(p – 6) + 5(p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m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+ 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4e – 5 =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40000" y="2997360"/>
                <a:ext cx="115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067280" y="858240"/>
            <a:ext cx="165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8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8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000" y="1557360"/>
            <a:ext cx="1214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g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60880" y="1989000"/>
            <a:ext cx="121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5160" y="2492280"/>
            <a:ext cx="1294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80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61360" y="2997360"/>
            <a:ext cx="1096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 4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84280" y="3429000"/>
            <a:ext cx="199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2e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+ 10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0280" y="39895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w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3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 – 6w</a:t>
            </a:r>
            <a:r>
              <a:rPr b="1" lang="en-NZ" sz="2800" spc="-1" strike="noStrike" baseline="30000">
                <a:solidFill>
                  <a:srgbClr val="000099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7080" y="4797360"/>
            <a:ext cx="1604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7p +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20520" y="5229360"/>
            <a:ext cx="1959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= m(m +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5661000"/>
            <a:ext cx="1477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99"/>
                </a:solidFill>
                <a:latin typeface="Arial"/>
                <a:ea typeface="SimSun"/>
              </a:rPr>
              <a:t>e = 1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195120"/>
            <a:ext cx="5545440" cy="6292440"/>
            <a:chOff x="1547640" y="195120"/>
            <a:chExt cx="5545440" cy="6292440"/>
          </a:xfrm>
        </p:grpSpPr>
        <p:sp>
          <p:nvSpPr>
            <p:cNvPr id="91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2752560" y="1447920"/>
                  <a:ext cx="88272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627280" y="3214800"/>
                  <a:ext cx="151308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2268360" y="907200"/>
              <a:ext cx="47527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6w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2w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4c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(8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÷ 2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5e(3e + 10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w(w – 3) + 5w(2w + 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Factorise   4m + 14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3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+ 9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46 – 2e = 12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752560" y="1447920"/>
                <a:ext cx="8827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27280" y="3214800"/>
                <a:ext cx="151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268360" y="907200"/>
            <a:ext cx="48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6w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2w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4c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(8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÷ 2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5e(3e + 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w(w – 3) + 5w(2w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Factorise   4m + 14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3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+ 9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46 – 2e = 12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80000" y="1484280"/>
                <a:ext cx="949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808880" y="981000"/>
            <a:ext cx="1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12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5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17080" y="23335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64c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2440" y="278136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 32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5960" y="321300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0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9116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5e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50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11520" y="4581360"/>
            <a:ext cx="21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12w</a:t>
            </a:r>
            <a:r>
              <a:rPr b="1" lang="en-NZ" sz="2800" spc="-1" strike="noStrike" baseline="30000">
                <a:solidFill>
                  <a:srgbClr val="0033cc"/>
                </a:solidFill>
                <a:latin typeface="Arial"/>
                <a:ea typeface="SimSun"/>
              </a:rPr>
              <a:t>2</a:t>
            </a: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 + 9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71160" y="508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2(2m +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5396040"/>
            <a:ext cx="1922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= 3e(e +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15200" y="5827680"/>
            <a:ext cx="1181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  <a:ea typeface="SimSun"/>
              </a:rPr>
              <a:t>e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47640" y="195120"/>
            <a:ext cx="5545440" cy="6200280"/>
            <a:chOff x="1547640" y="195120"/>
            <a:chExt cx="5545440" cy="6200280"/>
          </a:xfrm>
        </p:grpSpPr>
        <p:sp>
          <p:nvSpPr>
            <p:cNvPr id="115" name=""/>
            <p:cNvSpPr/>
            <p:nvPr/>
          </p:nvSpPr>
          <p:spPr>
            <a:xfrm>
              <a:off x="1547640" y="195120"/>
              <a:ext cx="55454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99"/>
                  </a:solidFill>
                  <a:latin typeface="Arial"/>
                </a:rPr>
                <a:t>Algebra AS 1.1 Starter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4440" y="815040"/>
              <a:ext cx="427104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)  5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 × 14h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3)  (7ab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10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4)  (3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× 2g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5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)  Expand  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2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4 – 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7)  Expand &amp; 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(w + 12) – 5(2w + 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)  Expand   (m + 4)(m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9)  Factorise   9e</a:t>
              </a:r>
              <a:r>
                <a:rPr b="1" lang="en-NZ" sz="24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3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21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)  Solve    (g + 4)(g – 5)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639880" y="1328760"/>
                  <a:ext cx="8748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9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556000" y="3141720"/>
                  <a:ext cx="9712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195120"/>
            <a:ext cx="55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99"/>
                </a:solidFill>
                <a:latin typeface="Arial"/>
              </a:rPr>
              <a:t>Algebra AS 1.1 Starter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539640" y="6021360"/>
            <a:ext cx="115092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319720"/>
            <a:ext cx="1655640" cy="45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4440" y="815040"/>
            <a:ext cx="427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)  5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h × 14h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3)  (7ab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0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4)  (3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× 2g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5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6)  Expand  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(4 –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7)  Expand &amp;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2(w + 12) – 5(2w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8)  Expand   (m + 4)(m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9)  Factorise   9e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 – 21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SimSun"/>
              </a:rPr>
              <a:t>10)  Solve    (g + 4)(g – 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39880" y="1328760"/>
                <a:ext cx="874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45080" y="5626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70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5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h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6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33720" y="1268280"/>
                <a:ext cx="9986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56000" y="3141720"/>
                <a:ext cx="971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370200" y="59245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g = -4 or g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2120" y="549288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3e(3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6680" y="49878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m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+ 10m +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77480" y="45561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-8w +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0040" y="364500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4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– e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70120" y="3095640"/>
            <a:ext cx="96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3v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23880" y="2637000"/>
            <a:ext cx="1337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54g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0160" y="2158920"/>
            <a:ext cx="151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=  49a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  <a:ea typeface="SimSun"/>
              </a:rPr>
              <a:t>b</a:t>
            </a:r>
            <a:r>
              <a:rPr b="1" lang="en-NZ" sz="2400" spc="-1" strike="noStrike" baseline="30000">
                <a:solidFill>
                  <a:srgbClr val="333399"/>
                </a:solidFill>
                <a:latin typeface="Arial"/>
                <a:ea typeface="SimSu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50:41Z</dcterms:created>
  <dc:creator>Ministry of Education</dc:creator>
  <dc:description/>
  <dc:language>en-US</dc:language>
  <cp:lastModifiedBy>default_user</cp:lastModifiedBy>
  <dcterms:modified xsi:type="dcterms:W3CDTF">2006-04-07T01:49:59Z</dcterms:modified>
  <cp:revision>31</cp:revision>
  <dc:subject/>
  <dc:title>Slide 1</dc:title>
</cp:coreProperties>
</file>